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6349-5B01-4E21-8D3D-B2365CEFC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D53E-119F-4E45-B35A-6CABBFB4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6053-ECDC-47FA-AA57-41ADDC0C3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DCBA-132A-458F-93DE-FAA2DB160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A66F-8AFD-4A5D-A165-32B7AB151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76C1-E639-4F0C-A014-B26584E5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FD3D-227D-4ADD-AC5E-FFAAF6BD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EB68-D200-4368-A47F-CD08C924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F779-7D5F-4A51-B441-A8332FBE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12E0-B7BF-4C56-95B4-DBD64F26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4E48-A3A5-4448-87E6-147D6BAC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42AF-AAF4-42B2-9A8F-C5667019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FAF4-4C12-42F4-B367-485D055C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B2EB-32D7-4BF5-9E29-8B65C526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DD48-E0A0-4572-A791-7C3FDE96B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A5DB-E1DF-4DB9-AB13-D37620AF1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82C8C-08D3-4598-8135-1B4AB3530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98FF3-6B13-4124-BB65-6BE40E67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485F3-91CC-44A6-AD25-A20D7106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4B9FA-B4D0-4BBC-AF6E-33A2D0F0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275A7-1606-431F-B96C-29BA693E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41ABC-0B11-47F9-A08A-70AB003F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27CA4-BD12-4F49-8C36-5655550C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D44AE-2BAF-43E5-BCFF-566F7A60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55501-02DA-437E-A230-EBED08AB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15F5C-40E5-4030-A27D-C3C8E455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7B93D-BFCD-45E6-BC0E-5E19CBDA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3071F-F564-4B4E-8A38-884B8A50B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40BE-9FE3-403B-876E-2DA7CFEE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08E9-7F20-4B5C-92EF-B8BA3FF3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0C69-C560-4BB1-BF30-02040768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6EFE-51E7-416D-9D21-3A7A8E42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EF09-31A6-4975-867B-07A2E0A7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D074-0432-4F2F-A133-A5821A2E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13D4-CC65-4579-9A48-8F44A084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249F-0CE2-4644-9365-5ADC124C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B882-85CA-45B5-B17D-095B5711E6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C0C1-B743-4C6F-94EF-9DF17E32FF4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BE30-8A55-4B40-B2AE-8C5CBD930D05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7880" y="65088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Odvajanje in čiščenje odpadne vode na območju vodonosnika Ljubljanskega polja – veliki projek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31560" y="13917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Odbor za spremljanje se seznanja, da se na podlagi ugotovitev predhodnega strokovnega pregleda projektov v pripravi s strani evropske pobude JASPERS projekt »Odvajanje in čiščenje odpadne vode na območju vodonosnika Ljubljanskega polja - Nadgradnja sistema odvajanja  komunalne odpadne vode v občinah Medvode in Vodice ter izgradnja povezovalnega kanala C0 v MOL« in projekt »Odvajanje in čiščenje odpadne vode na območju vodonosnika Ljubljanskega polja - izgradnja III. faze CČN Ljubljana« združita v en veliki projekt z naslovom »Odvajanje in čiščenje odpadne vode na območju vodonosnika Ljubljanskega polja«, ki se vključi v indikativni seznam velikih projektov Operativnega programa za izvajanje Evropske kohezijske politike v obdobju 2014 -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log sklep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5-03-26T08:16:50Z</dcterms:modified>
  <cp:revision>24</cp:revision>
  <dc:subject/>
  <dc:title>PowerPoint Presentation</dc:title>
</cp:coreProperties>
</file>